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media/image11.pct" ContentType="image/x-pict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246-918F-4861-BC6D-0581257C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46A-B6EB-4C98-AE86-54EB279E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61F-04A3-44BA-BFCC-CB6ACF9C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412-D026-4F19-B0FA-831DFBA4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01A-7D39-41E4-B5A5-D1B02BB2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7350-7571-426C-8A30-A9D525D5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86B8-AA32-4AAE-9C36-6E1DDC72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61A1-5EE0-4CF2-AA7F-B88184C1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780A-4B28-4C87-839B-993781EE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E20B-18A0-44C1-9148-D78B1D4E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42D3-EFF1-4986-BC0F-155E2CD1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2F3-5277-4F3E-9951-C5F5A2AD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BE97-3015-44BA-9CE7-0E0C9DD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139B-64FC-461C-93A8-E95C03B4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A416-27B9-4A95-AFA0-7354D0ED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85AC-3930-43A4-A878-E89891AD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8008-0A01-4AFD-921C-B41C5FC4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3CA-6A2A-4A3C-B56D-2E1EF627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E9D-04C9-4FE8-9CBC-E285CB60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0E4-9AB4-4B57-A503-1F5E635E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831-962C-4E86-8A4D-33C52A9B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456-5641-409B-A874-6E851CE0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3B8-9CAF-4694-9B8B-86AB579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CF7-03A3-4C79-A37D-48673B30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70CE-1400-4A0B-83C1-F0331DA769B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306D-6055-45F4-B78F-8DC269EF876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fcff"/>
                </a:solidFill>
                <a:latin typeface="Blackmoor LET"/>
              </a:rPr>
              <a:t>Diary of a Wimpy Kid </a:t>
            </a:r>
            <a:br>
              <a:rPr sz="4400"/>
            </a:br>
            <a:r>
              <a:rPr b="0" lang="en-US" sz="4400" spc="-1" strike="noStrike">
                <a:solidFill>
                  <a:srgbClr val="3ffcff"/>
                </a:solidFill>
                <a:latin typeface="Blackmoor LET"/>
              </a:rPr>
              <a:t>The  Ugly Tr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3352680"/>
            <a:ext cx="2176560" cy="3200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3886200"/>
            <a:ext cx="2330640" cy="2550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438280" y="3962520"/>
            <a:ext cx="4267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6147" dir="2700000" blurRad="0" rotWithShape="0">
                    <a:srgbClr val="875b0d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6147" dir="2700000" blurRad="0" rotWithShape="0">
                    <a:srgbClr val="875b0d"/>
                  </a:outerShdw>
                </a:effectLst>
                <a:latin typeface="Arial Black"/>
              </a:rPr>
              <a:t>By: Omar Coronel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6147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666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00"/>
                </a:solidFill>
                <a:latin typeface="Arial Black"/>
              </a:rPr>
              <a:t>Author: Jeff Kin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fcff"/>
                </a:solidFill>
                <a:latin typeface="Blackmoor LET"/>
              </a:rPr>
              <a:t>Image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iary-of-a-wimpy-kid.wikia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217.photobucket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iary-of-a-wimpy-kid.wikia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lickthecity.com diary-of-a-wimpy-kid.wikia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k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aca6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1cff"/>
                </a:solidFill>
                <a:latin typeface="Arial"/>
              </a:rPr>
              <a:t>Diary of a Wimpy Kid The Ugly Truth</a:t>
            </a:r>
            <a:r>
              <a:rPr b="0" lang="en-US" sz="3200" spc="-1" strike="noStrike">
                <a:solidFill>
                  <a:srgbClr val="9a1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1cff"/>
                </a:solidFill>
                <a:latin typeface="Arial"/>
              </a:rPr>
              <a:t>The author name is :Jeff Ken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ackmoor LET"/>
              </a:rPr>
              <a:t>Charac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Frank: Greg’s father, bossy, 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Mom: sometimes nice Greg’s m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Rodrick: Greg’s big brother, mean, bos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Rowley: Greg’s best friend,nice wei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Gammie:frank mom ,old,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Greg: funny ,not smart,wei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Manny: Greg’s little brother,cry ba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75480" y="3048120"/>
            <a:ext cx="1568520" cy="1981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105520" y="228600"/>
            <a:ext cx="1303200" cy="1600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38088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4038480" y="380880"/>
            <a:ext cx="1168560" cy="1447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400800" y="228600"/>
            <a:ext cx="1278000" cy="1600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7672320" y="1219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rcRect l="22036" t="34917" r="61055" b="17832"/>
          <a:stretch/>
        </p:blipFill>
        <p:spPr>
          <a:xfrm>
            <a:off x="6477120" y="1905120"/>
            <a:ext cx="1122120" cy="2133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62000" y="29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ff06"/>
                </a:solidFill>
                <a:latin typeface="Blackmoor LET"/>
              </a:rPr>
              <a:t>Set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ff06"/>
                </a:solidFill>
                <a:latin typeface="Blackmoor LET"/>
              </a:rPr>
              <a:t>Middle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ff06"/>
                </a:solidFill>
                <a:latin typeface="Blackmoor LET"/>
              </a:rPr>
              <a:t>Greg’s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ff06"/>
                </a:solidFill>
                <a:latin typeface="Blackmoor LET"/>
              </a:rPr>
              <a:t>Gammie’s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00"/>
                </a:solidFill>
                <a:latin typeface="Blackmoor LET"/>
              </a:rPr>
              <a:t>Probl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00"/>
                </a:solidFill>
                <a:latin typeface="Blackmoor LET"/>
              </a:rPr>
              <a:t>Greg and Rowley got into a big argument, so Greg is trying to save his friendship with Rowley by fixing the probl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1891429" t="88250" r="0" b="176500"/>
          <a:stretch/>
        </p:blipFill>
        <p:spPr>
          <a:xfrm>
            <a:off x="7620120" y="3352680"/>
            <a:ext cx="1125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fcff"/>
                </a:solidFill>
                <a:latin typeface="Blackmoor LET"/>
              </a:rPr>
              <a:t>1 Main Ev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fcff"/>
                </a:solidFill>
                <a:latin typeface="Blackmoor LET"/>
              </a:rPr>
              <a:t>It’s back to school after a summer va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fcff"/>
                </a:solidFill>
                <a:latin typeface="Blackmoor LET"/>
              </a:rPr>
              <a:t>Greg tries to save his friendship with Rowl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68f7f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fcff"/>
                </a:solidFill>
                <a:latin typeface="Blackmoor LET"/>
              </a:rPr>
              <a:t>Trying to keep up his grades in school so he doesn’t f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00"/>
                </a:solidFill>
                <a:latin typeface="Blackmoor LET"/>
              </a:rPr>
              <a:t>2 Main Ev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80"/>
                </a:solidFill>
                <a:latin typeface="Blackmoor LET"/>
              </a:rPr>
              <a:t>Greg’s mom goes to school and Greg ‘brothers and Dad are on they’re ow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0396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80"/>
                </a:solidFill>
                <a:latin typeface="Blackmoor LET"/>
              </a:rPr>
              <a:t>Greg’s is trying to get invited to Jordan Jury;s pa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aca6"/>
                </a:solidFill>
                <a:latin typeface="Blackmoor LET"/>
              </a:rPr>
              <a:t>Author Mess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lackmoor LET"/>
              </a:rPr>
              <a:t>Always try to fix your problem with friends  so you can have a longer friendship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085160" y="2590920"/>
            <a:ext cx="1717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83ff"/>
                </a:solidFill>
                <a:latin typeface="Blackmoor LET"/>
              </a:rPr>
              <a:t>Author  Bibli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aa"/>
                </a:solidFill>
                <a:latin typeface="Blackmoor LET"/>
              </a:rPr>
              <a:t>Jeff Kinney has made 7 Diary of a Wimpy Kid  boo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Diary of a Wimpy K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8ac"/>
                </a:solidFill>
                <a:latin typeface="Blackmoor LET"/>
              </a:rPr>
              <a:t>Diary of a Wimpy Kid Rodrick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Diary of a Wimpy Kid The Last St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aa"/>
                </a:solidFill>
                <a:latin typeface="Blackmoor LET"/>
              </a:rPr>
              <a:t> </a:t>
            </a:r>
            <a:r>
              <a:rPr b="0" lang="en-US" sz="2800" spc="-1" strike="noStrike">
                <a:solidFill>
                  <a:srgbClr val="ffdd00"/>
                </a:solidFill>
                <a:latin typeface="Blackmoor LET"/>
              </a:rPr>
              <a:t>Diary of  a Wimpy Kid Dog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Blackmoor LET"/>
              </a:rPr>
              <a:t>Diary of a Wimpy Kid Do It Yourself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moor LET"/>
              </a:rPr>
              <a:t>The Wimpy Kid Movie D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1cff"/>
                </a:solidFill>
                <a:latin typeface="Blackmoor LET"/>
              </a:rPr>
              <a:t>Diary of a Wimpy Kid The Ugly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315200" y="4114800"/>
            <a:ext cx="1639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17:32Z</dcterms:created>
  <dc:creator>D83  User</dc:creator>
  <dc:description/>
  <dc:language>en-US</dc:language>
  <cp:lastModifiedBy>D83  User</cp:lastModifiedBy>
  <dcterms:modified xsi:type="dcterms:W3CDTF">2010-12-03T16:21:13Z</dcterms:modified>
  <cp:revision>24</cp:revision>
  <dc:subject/>
  <dc:title>Diary of a Wimpy Kid The  Ugly Truth</dc:title>
</cp:coreProperties>
</file>